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97700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848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848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380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14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  <a:p>
            <a:pPr lvl="2"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  <a:p>
            <a:pPr lvl="3"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  <a:p>
            <a:pPr lvl="4"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64764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iteseer.ist.psu.edu/grosof03description.html" TargetMode="External"/><Relationship Id="rId2" Type="http://schemas.openxmlformats.org/officeDocument/2006/relationships/hyperlink" Target="http://www.cs.man.ac.uk/~ezolin/logic/complexity.html" TargetMode="External"/><Relationship Id="rId3" Type="http://schemas.openxmlformats.org/officeDocument/2006/relationships/hyperlink" Target="http://www.ubka.uni-karlsruhe.de/vvv/2004/wiwi/2/2.pdf" TargetMode="External"/><Relationship Id="rId4" Type="http://schemas.openxmlformats.org/officeDocument/2006/relationships/hyperlink" Target="http://www.agfa.com/w3c/euler/rpo-rules.n3" TargetMode="External"/><Relationship Id="rId5" Type="http://schemas.openxmlformats.org/officeDocument/2006/relationships/hyperlink" Target="http://citeseer.ist.psu.edu/baader03description.html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6248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gency FB"/>
              </a:rPr>
              <a:t>Using Rules with Ontologies in the Semantic Web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523520" y="2285640"/>
            <a:ext cx="61405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gency FB"/>
              </a:rPr>
              <a:t>Chimezie Ogbuji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Agency FB"/>
              </a:rPr>
              <a:t>Thoracic and Cardiovascular Surgery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Agency FB"/>
              </a:rPr>
              <a:t>Cleveland Clinic Foundation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4343400"/>
            <a:ext cx="6140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gency FB"/>
              </a:rPr>
              <a:t>July 25</a:t>
            </a:r>
            <a:r>
              <a:rPr b="0" lang="en-US" sz="2000" spc="-1" strike="noStrike" baseline="30000">
                <a:solidFill>
                  <a:srgbClr val="ffff99"/>
                </a:solidFill>
                <a:latin typeface="Agency FB"/>
              </a:rPr>
              <a:t>th</a:t>
            </a:r>
            <a:r>
              <a:rPr b="0" lang="en-US" sz="2000" spc="-1" strike="noStrike">
                <a:solidFill>
                  <a:srgbClr val="ffff99"/>
                </a:solidFill>
                <a:latin typeface="Agency FB"/>
              </a:rPr>
              <a:t>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gency FB"/>
              </a:rPr>
              <a:t>Presented to W3C HCLSIG ACPP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pecific logical restrictions (Horn logic) make it difficult to express certain statements: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ery person has a father (known or unknown)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However, this is straight forward in OWL (and Description Logics):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Person a owl:Class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dfs:subClassOf [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owl:Restriction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wl:onProperty :father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wl:cardinality “1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]         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triction on Expressiveness (Cont.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Given: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of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of fac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Backward chaining is goal-oriented: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: can a fact be inferred from the rules and existing fact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Forward chaining exhaustively infers new facts from the rule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sulting facts combined with the original facts are often referred to as the ‘closure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ule Inference Method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Logic Programming reasoners and algorithms are more mature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E algorithm for production (forward chaining)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ler cycle detection for backward chaining infere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Logic Programming systems are at the mercy of the explicit rule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cerns with Reason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Kurt Cagle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never eliminate complexity from a system, you can only move it from place to place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DL abstracts Knowledge Representation at the expense of the reasoning mechanism.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L reasoners are implemented to support only a limited kind of inference: class subsumption and consistency detec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lexity and Abstraction (Revisited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Use DL semantics where the domain falls nicely into </a:t>
            </a:r>
            <a:r>
              <a:rPr b="1" i="1" lang="en-US" sz="2800" spc="-1" strike="noStrike">
                <a:solidFill>
                  <a:srgbClr val="ffff99"/>
                </a:solidFill>
                <a:latin typeface="Arial"/>
              </a:rPr>
              <a:t>Categories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 / </a:t>
            </a:r>
            <a:r>
              <a:rPr b="1" i="1" lang="en-US" sz="2800" spc="-1" strike="noStrike">
                <a:solidFill>
                  <a:srgbClr val="ffff99"/>
                </a:solidFill>
                <a:latin typeface="Arial"/>
              </a:rPr>
              <a:t>Roles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and decidability is an issue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Use rules everywhere else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he combination covers the full spectrum of expressiveness and decidability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cluding both in the thought process improves Knowledge Engineering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ome DL semantics can be expressed as rules to take advantage of efficient pattern matching algorithm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romi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Description Logic Programs: Combining Logic Programs with Description Logic</a:t>
            </a:r>
            <a:endParaRPr b="1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citeseer.ist.psu.edu/grosof03description.ht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Description Logic Complexity Navigator</a:t>
            </a:r>
            <a:endParaRPr b="1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cs.man.ac.uk/~ezolin/logic/complexity.ht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Web Ontology Reasoning with Logic Databases</a:t>
            </a:r>
            <a:endParaRPr b="1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ubka.uni-karlsruhe.de/vvv/2004/wiwi/2/2.pd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Euler’s RDF Plus OWL N3 Rules</a:t>
            </a:r>
            <a:endParaRPr b="1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agfa.com/w3c/euler/rpo-rules.n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Description Logics as Ontology Languages for the Semantic Web</a:t>
            </a:r>
            <a:endParaRPr b="1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citeseer.ist.psu.edu/baader03description.ht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gency FB"/>
              </a:rPr>
              <a:t>Rule Languag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uleML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WRL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Notation 3 (N3)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gency FB"/>
              </a:rPr>
              <a:t>Semantic Web Reaso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losed World Machine (CWM)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Euler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Pychinko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DFEngine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Jena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A Rule consists of a body (antecedent) and a head (consequent)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 N3: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{?X :has ?body. ?X :has ?head. :body log:implies :head } =&gt; {?X a :Rule }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 SWRL’s abstract syntax: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ies(Antecedent(has(I-variable(X), I-variable(body) has(I-variable(X), I-variable(head)) log:Implies(I-variable(body), I-variable(head))) Consequent(Rule(I-variable(X))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sing Rules to Describe Ru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Logic Programming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ion systems (RETE, etc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lo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Horn-clause Logic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icient theorem proving, and reaso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rigin / Background of Ru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Kurt Cagle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never eliminate complexity from a system, you can only move it from place to place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mportant point regarding how / why rules are used with ontology language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lexity and Abstrac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Description Logics (DL)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ict subset of FOL with decidability in mi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DL are more palatable and (therefore) more ubiquitou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Ontology language constructs correspond to DL construct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ome DL (ontology) reasoning can be done via explicit rule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L Semantics as Analogy for Ru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ransitive Role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{?P a owl:TransitiveProperty. ?X ?P ?Y. ?Y ?P ?Z } =&gt; {?X ?P ?Z}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lass inclusion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{?B rdfs:subClassOf ?C. ?A rdfs:subClassOf ?B} =&gt; {?A rdfs:subClassOf ?C}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verse Role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{?P owl:inverseOf ?Q. ?S ?P ?O} =&gt; {?O ?Q ?S}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Functional Restriction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{?P a owl:FunctionalProperty. ?S ?P ?X. ?S ?P ?Y} =&gt; {?X owl:sameAs ?Y}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ome DL Semantics as N3 Ru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ertain implications cannot be expressed in DL: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s who live and work at the same location are ‘Home Workers’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 N3: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{?X :work ?Y. ?X :live ?Z. ?Z :located ?W. ?Y :located ?Y} =&gt; {?X a :HomeWorker}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triction on Expressiven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23:05:29Z</dcterms:created>
  <dc:creator>William Stellhorn, PhD.</dc:creator>
  <dc:description/>
  <dc:language>en-US</dc:language>
  <cp:lastModifiedBy>Chimezie Ogbuji</cp:lastModifiedBy>
  <dcterms:modified xsi:type="dcterms:W3CDTF">2006-07-25T00:23:51Z</dcterms:modified>
  <cp:revision>149</cp:revision>
  <dc:subject/>
  <dc:title>Slide 1</dc:title>
</cp:coreProperties>
</file>